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85F1-2565-49D1-9659-8CAE15345E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4AB5-FD8F-415A-94D0-40AE7173BA8D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11BF4-63E4-499D-9B7D-A28022A14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1D4F3-08D1-4FCB-9BFA-229ACD13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9E807-72A0-49C8-8BBF-E7E697FD5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A9573-9787-4D00-9828-9647318E8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3298-1980-4A6E-8419-0A0D8961D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B8E71-B6E8-462A-9485-73CD7DB0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32C8E-EEF6-4E3E-88A3-FE1E5DCA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42B4-DE9A-46E1-873A-71C90AFC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CF32-982D-458D-BDAA-2EB5A696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F4F8-4111-4FEB-A46A-0F1A47D5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0552-2904-43C6-BE01-7864C5C0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B4A0C-DD1B-4A46-B83C-3D18CC4B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A66E-7EC5-409F-A9C0-050D8CA3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3845-B5F4-474A-BB92-63C89DB3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2A4D-5331-4FE6-8B63-CB70F247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7BF8-826E-4443-B1DB-BBEDE9FF6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6C573-FDCE-4432-8B0D-B11BCF63B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B28E0-0CAF-41BD-A0E3-EADAD263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9CE37-B2B4-465B-8B65-60922607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B1424-5ECA-4D30-80C3-6220DE4F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18B98-8E62-4410-85DC-17333EB0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F1CAF-4D32-4C14-B616-70863701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7DEAE-1E1B-44DD-A68B-0C7A33ED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C14EC-5B09-4BC9-990D-56EF5FA2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23CB-994F-4769-9364-612C3BC0BB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356D-86FD-4FD3-AF16-96EBC1B4F74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8E62-79DF-49E9-ADED-EE7D5B6BD52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F9E3-F8A9-46BC-A930-E092547AE06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L SAMARITAN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ue despreci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abía lo que s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entía ser ignor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o al hombre como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UNA PERSONA PARA AMAR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http://biblecraftsandactivities.com/wp-content/uploads/2013/07/GoodSamaritan-coloring_sermons4kids.gif"/>
          <p:cNvPicPr/>
          <p:nvPr/>
        </p:nvPicPr>
        <p:blipFill>
          <a:blip r:embed="rId1"/>
          <a:stretch/>
        </p:blipFill>
        <p:spPr>
          <a:xfrm>
            <a:off x="5929200" y="722160"/>
            <a:ext cx="318456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61C1-D93B-46CB-9493-5C28B81D63B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800" spc="-1" strike="noStrike">
                <a:solidFill>
                  <a:srgbClr val="ffffff"/>
                </a:solidFill>
                <a:latin typeface="Garamond"/>
              </a:rPr>
              <a:t>PUDIMOS ELIGIR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VI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AMAR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200" spc="-1" strike="noStrike">
                <a:solidFill>
                  <a:srgbClr val="ffffff"/>
                </a:solidFill>
                <a:latin typeface="Garamond"/>
              </a:rPr>
              <a:t>NUESTRA MET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La meta es dejar atrás sus fallas y ver sus necesidad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http://images.clipartpanda.com/choice-clipart-fork-choice-hi.png"/>
          <p:cNvPicPr/>
          <p:nvPr/>
        </p:nvPicPr>
        <p:blipFill>
          <a:blip r:embed="rId1"/>
          <a:stretch/>
        </p:blipFill>
        <p:spPr>
          <a:xfrm>
            <a:off x="5003640" y="189000"/>
            <a:ext cx="3822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BDFA-8127-4773-920E-F707212C349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0" y="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ristianismo 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RELACIÓNE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39640" y="1916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na relación vertical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Dio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Relaciónes horizontales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person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0" y="4294080"/>
            <a:ext cx="655308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Ellos sabrén que somos Cristianos por nuestras</a:t>
            </a: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…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RELACIONES DE AMOR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15" descr="j0198096"/>
          <p:cNvPicPr/>
          <p:nvPr/>
        </p:nvPicPr>
        <p:blipFill>
          <a:blip r:embed="rId1"/>
          <a:stretch/>
        </p:blipFill>
        <p:spPr>
          <a:xfrm>
            <a:off x="6553080" y="1720800"/>
            <a:ext cx="241164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1883-597E-4B9E-A640-39480086702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Piense en las personas en su vida 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que son las más difíciles de amar. ¿Por qué son difíciles de amar? ¿Cómo las vemos?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¿Cómo puede usted empezar a ver a la gente de la manera en la que el samaritano vió al hombre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166B-673B-4F5D-84A8-693B59B7E74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istianismo es Relació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A la gente no le importa mucho cuanto sabe usted, hasta que saben cuanto se interesa en ellos.”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- Dr. John C. Maxwel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16AF-04CD-4FEC-83C0-D93A483D673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Una definición de liderazgo espiritu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219320" y="275256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39640" y="1557360"/>
            <a:ext cx="8305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Garamond"/>
              </a:rPr>
              <a:t>AQUEL QUE ASUMA RESPONSABILIDAD POR LA SALUD Y EL DESARROLLO DE SUS RELACIONE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FBF4-5E0F-4C20-B963-996CB8285CD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4080" y="1393920"/>
            <a:ext cx="898992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NFITRIÓN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 La analogía del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OCTOR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uatro palabras para ilustrar los roles del líd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6" descr="http://misc.phillipmartin.info/misc_welcome2.gif"/>
          <p:cNvPicPr/>
          <p:nvPr/>
        </p:nvPicPr>
        <p:blipFill>
          <a:blip r:embed="rId1"/>
          <a:srcRect l="0" t="0" r="0" b="5232"/>
          <a:stretch/>
        </p:blipFill>
        <p:spPr>
          <a:xfrm>
            <a:off x="4788000" y="585720"/>
            <a:ext cx="2952720" cy="3459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rcRect l="28613" t="0" r="29542" b="0"/>
          <a:stretch/>
        </p:blipFill>
        <p:spPr>
          <a:xfrm>
            <a:off x="795240" y="3030480"/>
            <a:ext cx="15843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F551-E64A-4113-AF31-93899C813FE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4080" y="1413000"/>
            <a:ext cx="8989920" cy="45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EJER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GUÍA DE TURIST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tro palabras para ilustra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4427640" y="957240"/>
            <a:ext cx="4181400" cy="2898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29210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9CEC-F3CE-47F3-9302-423D34CD54F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0" y="162864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LAS PERSONAS SO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NSEGURA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ÉLES CONFIANZ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rsonas heridas hieren personas. Personas seguras dan seguridad a las persona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9" descr="http://images.clipartof.com/thumbnails/227344-Royalty-Free-RF-Clipart-Illustration-Of-A-Somber-Moodie-Character-Looking-At-His-Reflection-In-A-Mirror.jpg"/>
          <p:cNvPicPr/>
          <p:nvPr/>
        </p:nvPicPr>
        <p:blipFill>
          <a:blip r:embed="rId1"/>
          <a:stretch/>
        </p:blipFill>
        <p:spPr>
          <a:xfrm>
            <a:off x="5764320" y="981000"/>
            <a:ext cx="2960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983D-A64C-4C1E-A0F9-EE0188F7CF3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1052640"/>
            <a:ext cx="914400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las personas les gust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ir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PECIAL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ÓNREL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ndo usted afirme y honre a alguien con sus palabras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acerlo inceramente, específicamente, públicamente, personalmen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8" descr="http://www.presentationmagazine.com/newimages/rally-speech-510.jpg"/>
          <p:cNvPicPr/>
          <p:nvPr/>
        </p:nvPicPr>
        <p:blipFill>
          <a:blip r:embed="rId1"/>
          <a:stretch/>
        </p:blipFill>
        <p:spPr>
          <a:xfrm>
            <a:off x="5796000" y="836640"/>
            <a:ext cx="2781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749F-232B-4B88-ABBD-1B84A0C7D48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ección #5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ultivando la habilidad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de tratar con la gente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rol vital de las relaciones en el liderazgo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2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7010-9809-4151-8DD8-10E0DAE538A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620640"/>
            <a:ext cx="9144000" cy="47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s personas buscan un mej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e5e5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ÉLES ESPERANZA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clave para hoy es creer en el mañan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rcRect l="7405" t="9629" r="9923" b="10722"/>
          <a:stretch/>
        </p:blipFill>
        <p:spPr>
          <a:xfrm>
            <a:off x="2843280" y="4149720"/>
            <a:ext cx="61624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3115-F76B-43D6-B3D1-93FB62F9A3B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981000"/>
            <a:ext cx="9144000" cy="68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 La gente necesita se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NTENDID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ÚCHEL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hacer conexión co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tros, entienda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llaves” de su coraz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¿De qué platica, lamenta, sueña, alegría, planea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8812" t="0" r="9876" b="0"/>
          <a:stretch/>
        </p:blipFill>
        <p:spPr>
          <a:xfrm>
            <a:off x="6394320" y="1773360"/>
            <a:ext cx="2451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DADF-9522-4DB4-AA5C-EB5B4DCFE51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620640"/>
            <a:ext cx="9144000" cy="77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La gente necesit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RECCIÓ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ue” por ell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mayoría de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ersonas puede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ar el barco; el líder ayuda a visualizar el curs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deb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be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i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n 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mostra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373720" y="69228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2668-22F0-4F54-82B1-8FEC7863D67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1031"/>
          <p:cNvSpPr/>
          <p:nvPr/>
        </p:nvSpPr>
        <p:spPr>
          <a:xfrm>
            <a:off x="0" y="97488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La gente está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ECESITADA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ble primer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 sus necesidad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gente necesita ser ministrada antes de que puedan ministr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3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8985" t="3697" r="0" b="14665"/>
          <a:stretch/>
        </p:blipFill>
        <p:spPr>
          <a:xfrm>
            <a:off x="5219640" y="944640"/>
            <a:ext cx="3836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BA94-72FC-4269-BACD-1A47C68FC56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0" y="907920"/>
            <a:ext cx="914400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La gen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SE DEPRIM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DÉLES ÁNI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5364000" y="2832120"/>
            <a:ext cx="35481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AC6A-DBC7-49CA-8124-BEA75EC54AE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0" y="836640"/>
            <a:ext cx="91440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La gente quier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RIUNF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YÚDELES A GAN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xtiéndase y ayude a otros a alcanzar sus metas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6" descr="http://images.clipartpanda.com/request-clipart-first-prize-winner-form-microsoft-clip-art.png"/>
          <p:cNvPicPr/>
          <p:nvPr/>
        </p:nvPicPr>
        <p:blipFill>
          <a:blip r:embed="rId1"/>
          <a:stretch/>
        </p:blipFill>
        <p:spPr>
          <a:xfrm>
            <a:off x="6084720" y="836640"/>
            <a:ext cx="2862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AC0A-8822-4930-80EA-822749E8E01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0" y="907920"/>
            <a:ext cx="914400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La gente dese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RELACIONE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ovéales un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munida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actique el principio del 101% con la gente. Encuentre el 1% que usted tiene en común con alguien y déle el 100% de su atenci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10" descr="http://www.clker.com/cliparts/3/v/J/S/q/f/community-symbol-md.png"/>
          <p:cNvPicPr/>
          <p:nvPr/>
        </p:nvPicPr>
        <p:blipFill>
          <a:blip r:embed="rId1"/>
          <a:stretch/>
        </p:blipFill>
        <p:spPr>
          <a:xfrm>
            <a:off x="4387680" y="1268280"/>
            <a:ext cx="45831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636480"/>
            <a:ext cx="91440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. La gente busc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ODELO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gui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A UN EJEMPL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Gente Hace Lo Que V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diquen el Evangelio en todo tiempo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i es necesario, usen las palabras.”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an Francisc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s posible que usted es la unica Bibli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 vecino leerá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 Corintios 11:1 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“Sed imitadores de mí, así como yo de Cristo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8" descr="http://sweetclipart.com/multisite/sweetclipart/files/foot_prints_walking.png"/>
          <p:cNvPicPr/>
          <p:nvPr/>
        </p:nvPicPr>
        <p:blipFill>
          <a:blip r:embed="rId1"/>
          <a:stretch/>
        </p:blipFill>
        <p:spPr>
          <a:xfrm>
            <a:off x="7610400" y="630360"/>
            <a:ext cx="14112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0BC6-C99D-46D1-81EF-79B56702DDF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BCEB-8C15-4A22-A766-3E07B719182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Garamond"/>
              </a:rPr>
              <a:t>La base del liderazgo son las personas</a:t>
            </a:r>
            <a:br>
              <a:rPr sz="4000"/>
            </a:b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50920" y="981000"/>
            <a:ext cx="856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Aquél que cree que lidera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pero no tiene seguidores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tan solo está dando un paseo”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Picture 10" descr="http://sr.photos2.fotosearch.com/bthumb/CSP/CSP094/k0945302.jpg"/>
          <p:cNvPicPr/>
          <p:nvPr/>
        </p:nvPicPr>
        <p:blipFill>
          <a:blip r:embed="rId1"/>
          <a:stretch/>
        </p:blipFill>
        <p:spPr>
          <a:xfrm>
            <a:off x="1987560" y="3621240"/>
            <a:ext cx="51768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DBC9-CDA9-4611-9166-9566D6BE045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uatro verdades acerca del liderazgo y la g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0" y="1413000"/>
            <a:ext cx="9144000" cy="64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 personas son 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ESOR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ás preciado de la igles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El bien más importante de un líder es su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BIL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tratar con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Un buen líder puede liderar varios grupos porque el liderazgo se trata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Usted puede tener habilidad para tratar con las personas y no ser un bue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Í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pero no puede ser un buen líder sin tener habilidad para tratar con las person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F9AE-D239-4EF9-AA86-FE060CCF0BB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7000" y="563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Lucas 10:30-37 -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“¿Quién es mi prójimo?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79800" y="1844640"/>
            <a:ext cx="514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ffffff"/>
                </a:solidFill>
                <a:latin typeface="Garamond"/>
              </a:rPr>
              <a:t>Jesus enseñó que las relaciones y el ministerio no están circunscritos a su círculo inmediato de amig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6" descr="http://www.clipsahoy.com/clipart3/as5744.gif"/>
          <p:cNvPicPr/>
          <p:nvPr/>
        </p:nvPicPr>
        <p:blipFill>
          <a:blip r:embed="rId1"/>
          <a:stretch/>
        </p:blipFill>
        <p:spPr>
          <a:xfrm>
            <a:off x="108000" y="2357280"/>
            <a:ext cx="379404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5372-41BB-4410-B124-5AF79780FEF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Jesus enseñó que las relaciones con otros son mas importantes que muchas actividades espirituales que practicamos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(Mateo 5:23-24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B8DB-5B3F-4E38-AE14-8997F44A183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76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Tambien, </a:t>
            </a:r>
            <a:r>
              <a:rPr b="1" lang="en-ZA" sz="4400" spc="-1" strike="noStrike">
                <a:solidFill>
                  <a:srgbClr val="e5e5ff"/>
                </a:solidFill>
                <a:latin typeface="Garamond"/>
              </a:rPr>
              <a:t>Jesus enseñó que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Garamond"/>
              </a:rPr>
              <a:t>La manera como se ve a sí mismo y otros es la manera como usted sirve a la gente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581B-35CB-4CE4-A6D7-F23F654F6FE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ADR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aron a la gent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nipularon a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eron al hombre como una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VÍCTIMA PARA 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http://fm99.com/wp-content/blogs.dir/2/files/2013/05/robber.jpg"/>
          <p:cNvPicPr/>
          <p:nvPr/>
        </p:nvPicPr>
        <p:blipFill>
          <a:blip r:embed="rId1"/>
          <a:stretch/>
        </p:blipFill>
        <p:spPr>
          <a:xfrm>
            <a:off x="5651640" y="189000"/>
            <a:ext cx="3333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F79D-F6B5-4234-91C6-3CFBA9A0D88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SACERDOT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Guardaban la ley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ran pur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eron al hombre como un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OBLEMA PARA EVIT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http://sr.photos3.fotosearch.com/bthumb/CSP/CSP993/k15485619.jpg"/>
          <p:cNvPicPr/>
          <p:nvPr/>
        </p:nvPicPr>
        <p:blipFill>
          <a:blip r:embed="rId1"/>
          <a:stretch/>
        </p:blipFill>
        <p:spPr>
          <a:xfrm>
            <a:off x="6443640" y="44280"/>
            <a:ext cx="266868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59:28Z</dcterms:modified>
  <cp:revision>90</cp:revision>
  <dc:subject/>
  <dc:title>PowerPoint Presentation</dc:title>
</cp:coreProperties>
</file>